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8853-17EE-439B-8879-E4A8A71D4B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8C47-F179-4BAF-89DC-5105C8278DC5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2A0-2CFC-4336-8E09-CF78BEAF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E7F-A33E-461E-88E9-C5667F07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461-DEB7-41F9-AC39-BD973DE7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6B3-461E-49C8-8EA2-ED51F371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4BB-72FA-4384-A573-11E5D917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3C30-E3C5-4E11-94EE-5D78C511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DF68-7645-493B-9527-C9B2A151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7328-CF42-46EF-8FD9-68AD1EC4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E1E7-68F3-4166-8E62-863E1E1F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9A78-0F39-4697-9B91-0A2C50D4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845-A8F0-44FD-9F68-F1952D6A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0304-F84C-49EE-BE6F-8BEBC371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630D-ED44-4628-9F6D-15AE529D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F5A8-410D-4391-9754-74823AD9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E403-AB12-4B8F-BFD0-53A8270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66F9-B27B-45CA-8716-28F1E447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CD01-CBBE-42DC-9D8C-A57F6808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451-C4B1-4242-9C22-E128ECF3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6BC-B862-4FF0-B94C-B7BD7E4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3E5-DE4D-4C99-A48B-0FF5753E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309-C5E7-4132-BF1E-3AE8C9D0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419-BF5E-4394-9EFC-CF4ADA05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4C1-5B20-43A3-A6BB-2C2A035F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CAD-729A-4518-849B-6A7E5E2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685F-70BB-4BC0-9336-4DF156F3D0B1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CEF8-F570-4226-9789-1B2E014514FB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opzp.cz/dokumenty/harmonogram-vyzev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efekt.gov.cz/cz/dotacni-programy/130452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sfzp.cz/dotace-a-pujcky/modernizacni-fond/dokumenty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Seminář na téma: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83. a 84. výzva IROP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16. září 2025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3" descr=""/>
          <p:cNvPicPr/>
          <p:nvPr/>
        </p:nvPicPr>
        <p:blipFill>
          <a:blip r:embed="rId1"/>
          <a:stretch/>
        </p:blipFill>
        <p:spPr>
          <a:xfrm>
            <a:off x="957240" y="1100160"/>
            <a:ext cx="5559480" cy="1150920"/>
          </a:xfrm>
          <a:prstGeom prst="rect">
            <a:avLst/>
          </a:prstGeom>
          <a:ln w="0">
            <a:noFill/>
          </a:ln>
        </p:spPr>
      </p:pic>
      <p:pic>
        <p:nvPicPr>
          <p:cNvPr id="149" name="Obrázek 5" descr="Obsah obrázku snímek obrazovky, Písmo, Elektricky modrá, Grafika&#10;&#10;Obsah vygenerovaný umělou inteligencí může být nesprávný."/>
          <p:cNvPicPr/>
          <p:nvPr/>
        </p:nvPicPr>
        <p:blipFill>
          <a:blip r:embed="rId2"/>
          <a:stretch/>
        </p:blipFill>
        <p:spPr>
          <a:xfrm>
            <a:off x="1042920" y="5394240"/>
            <a:ext cx="4438800" cy="1150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Operační program Životní prostředí 2021-2027</a:t>
            </a: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13960" y="1268280"/>
            <a:ext cx="7790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íl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ezi hlavní obecně stanovené cíle patří ochrana a zajištění kvalitního prostředí pro život obyvatel Česka, omezení negativních dopadů lidské činnosti na životní prostředí a klima a příspěvek k řešení problémů životního prostředí a klimatu na evropské a globální úrovn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bdobí: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2021-2027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Alokace pro ČR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ca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61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Důležité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u specifického cíle 1.1 a 1.2 nejsou podporovány projekty realizované na území hl. m. Prah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99640" y="1197000"/>
            <a:ext cx="7704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GillSans"/>
              </a:rPr>
              <a:t>Specifický cíl 1.1 Podpora energetické účinnosti a snižování emisí skleníkových plyn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1.1 Snížení energetické náročnosti veřejných budov a veřejné infrastruktur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5360" indent="-3153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plexní, či návazné stavební úpravy budov vedoucí ke zlepšení tepelně technických vlastností obvodových konstrukcí budov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ystémy využívající odpadní teplo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ystémy nuceného větrání s rekuperací odpadního tepla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konstrukce otopné soustav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statní opatření vedoucí ke snížení energetické náročnosti budovy ve všech aspektech jejího provozu např.: zavedení energetického managementu, vč. řídícího softwaru a měřících a řídících prvků pro optimalizaci výroby a spotřeby energi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22320" y="1628640"/>
            <a:ext cx="729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je možné kombinovat s aktivitami v 1.1.3, 1.1.4 a 1.2.1 do jednoho komplexního projektu (jako součást komplexního projektu může být způsobilým výdajem i dobíjecí stanice pro vozidla na elektropohon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je poskytována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pro jednotlivá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Blíže se podpoře formou jednotkových nákladů věnuje příloha č. 03 Pravidel pro žadatele a příjemce podpory v Operačním programu Životní prostředí 2021-2027 Metodika zjednodušených metod vykazování s kategorizací položek rozpočtu.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4920" y="1268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397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1.2 Snížení energetické náročnosti/zvýšení účinnosti technologických proces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7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172520" indent="-298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nergetické náročnosti/zvýšení energetické účinnosti gastro provozů (např. školských, sociálních, či zdravotnických zařízení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172520" indent="-298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nergetické náročnosti/zvýšení energetické účinnosti provozu prádelen (např. sociálních, či zdravotnických zařízení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172520" indent="-298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nergetické náročnosti/zvýšení energetické účinnosti u dalších technologických zařízení ve veřejných budovách a infrastruktuř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7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</a:t>
            </a:r>
            <a:r>
              <a:rPr b="1" lang="cs-CZ" sz="1100" spc="-1" strike="noStrike">
                <a:solidFill>
                  <a:srgbClr val="003d61"/>
                </a:solidFill>
                <a:latin typeface="Calibri"/>
                <a:ea typeface="Calibri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50 % způsobilých výdaj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172520" indent="-298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44280" y="1268280"/>
            <a:ext cx="773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1.3 Zlepšení kvality vnitřního prostředí veřejných budov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odernizace vnitřního osvětlen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k eliminaci negativních akustických jev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nější stínící prvk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je možné podpořit pouze v kombinaci s aktivitami v opatření 1.1.1, jako součást komplexní revitalizace budovy, vyjma instalace vnějších stínících prvk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je poskytována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pro jednotlivá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Blíže se podpoře formou jednotkových nákladů věnuje příloha č. 03 Pravidel pro žadatele a příjemce podpory v Operačním programu Životní prostředí 2021-2027 Metodika zjednodušených metod vykazování s kategorizací položek rozpočtu.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16532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38376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1.4 Zvýšení adaptability veřejných budov na změnu klimatu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376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projekty: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014840" indent="-28800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technologie pro akumulaci, úpravu a rozvod šedých a srážkových vod v budovách za účelem splachování, zálivky, praní a dalších relevantních užit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376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je možné podpořit pouze v kombinaci s aktivitami opatření 1.1.1, jako součást komplexní revitalizace budovy nebo v kombinaci s aktivitami opatření 1.1.5, jako součást výstavby nových veřejných budov; samostatná podpora opatření je možná v rámci opatření 1.3.4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376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je poskytována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pro jednotlivá opatřen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3760" algn="just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Blíže se podpoře formou jednotkových nákladů věnuje příloha č. 03 Pravidel pro žadatele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a příjemce podpory v Operačním programu Životní prostředí 2021-2027 Metodika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zjednodušených metod vykazování s kategorizací položek rozpočtu.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0760" y="1052640"/>
            <a:ext cx="78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GillSans"/>
              </a:rPr>
              <a:t>Specifický cíl 1.2 Podpora energie z obnovitelných zdrojů v souladu se směrnicí (EU) 2018/2001, včetně kritérií udržitelnosti stanovených v uvedené směrnic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2.1 Výstavba a rekonstrukce obnovitelných zdrojů energie pro veřejné budov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7480" indent="-267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měna zdroje pro vytápění, chlazení nebo přípravu teplé vody využívajícího fosilní paliva nebo elektrickou energii za: 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tepelné čerpadlo, kotel na biomasu, zařízení pro kombinovanou výrobu elektřiny a tepla či chladu využívající OZ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oučástí projektu může být i rekonstrukce otopné soustav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instalace solárně – termických systém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instalace fotovoltaických systém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konstrukce, či výměna stávajícího OZE za OZE, včetně rekonstrukce otopné soustav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vedení ener. managementu včetně řídícího softwaru a měřících a řídících prvků pro optimalizaci výroby a spotřeby energi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85600" y="1557360"/>
            <a:ext cx="764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ovaná opatření je možné kombinovat s aktivitami opatření 1.1.1 a 1.1.3 do jednoho kombinovaného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je poskytována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pro jednotlivá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Blíže se podpoře formou jednotkových nákladů věnuje příloha č. 03 Pravidel pro žadatele a příjemce podpory v Operačním programu Životní prostředí 2021-2027 Metodika zjednodušených metod vykazování s kategorizací položek rozpočtu.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06320" y="11653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2.2 Výstavba a rekonstrukce obnovitelných zdrojů energie pro zajištění dodávek systémové energie ve veřejném sektor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7076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instalace: 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tepelného čerpadla, kotle na biomasu, zařízení pro kombinovanou výrobu elektřiny a tepla či chladu využívající OZE, solárně termických systémů, fotovoltaických systém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7076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 zajištění dodávek systémové energie do veřejné infrastruktury např.: 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vodohospodářské infrastruktury, kompostáren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7076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vedení energetického managementu včetně řídícího softwaru a měřících a řídících prvků pro optimalizaci výroby a spotřeby energi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bude poskytována do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maximální hranice 50 % celkových způsobilých výdajů projektů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na daný typ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Modernizační fond</a:t>
            </a: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poručuji průběžně kontrolovat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harmonogram plánovaných výzev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 dispozici zde: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Harmonogram výzev – Operační program Životní prostřed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EFEKT III</a:t>
            </a: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FEKT II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92" name="Zástupný obsah 4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3425760" cy="354168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900000" y="1268280"/>
            <a:ext cx="770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GillSans"/>
              </a:rPr>
              <a:t>Státní program na podporu úspor energie EFEKT III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GillSans"/>
              </a:rPr>
              <a:t>Cíl:  </a:t>
            </a:r>
            <a:r>
              <a:rPr b="0" lang="cs-CZ" sz="2000" spc="-1" strike="noStrike">
                <a:solidFill>
                  <a:srgbClr val="002060"/>
                </a:solidFill>
                <a:latin typeface="GillSans"/>
              </a:rPr>
              <a:t>podpora energetických úspor a snižování energetické náročnosti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GillSans"/>
              </a:rPr>
              <a:t>Období: </a:t>
            </a:r>
            <a:r>
              <a:rPr b="0" lang="cs-CZ" sz="2000" spc="-1" strike="noStrike">
                <a:solidFill>
                  <a:srgbClr val="002060"/>
                </a:solidFill>
                <a:latin typeface="GillSans"/>
              </a:rPr>
              <a:t>2022–2027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GillSans"/>
              </a:rPr>
              <a:t>Alokace: </a:t>
            </a:r>
            <a:r>
              <a:rPr b="0" lang="cs-CZ" sz="2000" spc="-1" strike="noStrike">
                <a:solidFill>
                  <a:srgbClr val="002060"/>
                </a:solidFill>
                <a:latin typeface="GillSans"/>
              </a:rPr>
              <a:t>max 160 mil. Kč/rok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99640" y="134136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SA 1 Předprojektová příprav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ximálně 80 % způsobilých výda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např.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pracování vstupní studie potenciálu energetických úspor ke snížení energetické náročnosti budov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pracování následných komplexních energetických studi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pracování zadávací dokumentace pro veřejnou zakázku pro výběrové řízení na dodavatele nebo technické asistence s žádostí o podporu do národních i evropských dotačních titul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FEKT II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FEKT II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69960" y="126828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SA 4 Energetický management a koncep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ximálně 90 % způsobilých výda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např.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návrhu opatření nezbytných pro snižování energetické náročnosti a efektivního řízení nakládání s energií v energetickém hospodářství žadatel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prava na certifikaci managementu hospodaření s energií systému energetického řízení v souladu s normou ČSN EN ISO 50001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spěvek na služby energetického manažera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Další informace naleznete zde: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MPO Efekt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ěkuji za pozornost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26920" y="1125000"/>
            <a:ext cx="7777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íl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misí skleníkových plynů, zvýšení energetické účinnosti a navýšení podílu obnovitelných zdrojů energie v celkovém mixu energetických zdrojů do roku 2030 a přispění k dekarbonizaci české ekonomiky v horizontu 2050 pomocí strategických investic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bdobí: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2021-203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Alokace pro ČR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ca 500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 financování fondu jsou celkově vyčleněna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 % emisních povolenek v období 2021–2030,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,5 % povolenek dražených mezi roky 2024–2030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5" name="Zástupný obsah 4" descr=""/>
          <p:cNvPicPr/>
          <p:nvPr/>
        </p:nvPicPr>
        <p:blipFill>
          <a:blip r:embed="rId1"/>
          <a:stretch/>
        </p:blipFill>
        <p:spPr>
          <a:xfrm>
            <a:off x="1009800" y="2349360"/>
            <a:ext cx="693072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8"/>
          <p:cNvSpPr/>
          <p:nvPr/>
        </p:nvSpPr>
        <p:spPr>
          <a:xfrm>
            <a:off x="1127160" y="141300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ouhrnný přehled programů určených pro financování opatření z prostředků Modernizačního fondu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00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gram č. 3 -&gt; ENERG -&gt; Energetická účinnost a snižování spotřeby energi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na opatření pro zvýšení energetické účinnosti a snížení produkce skleníkových plynů v průmyslu, v podnikání, ve veřejných budovách a v rezidenčním sektoru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3d61"/>
                </a:solidFill>
                <a:latin typeface="GillSans"/>
              </a:rPr>
              <a:t>Podprogram č. 3C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-&gt; </a:t>
            </a:r>
            <a:r>
              <a:rPr b="1" lang="sv-SE" sz="2000" spc="-1" strike="noStrike">
                <a:solidFill>
                  <a:srgbClr val="003d61"/>
                </a:solidFill>
                <a:latin typeface="GillSans"/>
              </a:rPr>
              <a:t>Energetické úspory ve veřejných budovách (ENERGov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rogram je zaměřen na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podporu komplexních opatření ke zlepšení energetické účinnosti a využití obnovitelných zdrojů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e veřejných budovách, budovách státu a veřejné infrastruktuř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1720" y="107784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íloví příjemci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</a:t>
            </a:r>
            <a:r>
              <a:rPr b="0" lang="pl-PL" sz="2000" spc="-1" strike="noStrike">
                <a:solidFill>
                  <a:srgbClr val="003d61"/>
                </a:solidFill>
                <a:latin typeface="GillSans"/>
              </a:rPr>
              <a:t>eřejné a státní subjekty a jejich organiza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pis podporované oblasti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ákladním cílem je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komplexní podpora revitalizace budov veřejného sektoru a veřejné infrastruktury s cílem snížení konečné spotřeby energie a využití OZ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; podpora dále klade důraz na zajištění kvality vnitřního prostředí v budově a adaptaci na změnu klima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rogram umožňuje podporovat např.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nergetické náročnosti budov a infrastruktury a systémů technologické spotřeby energie,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stavbu a modernizaci obnovitelných zdrojů energie pro veřejné budovy a pro zajištění dodávek systémové energie ve veřejném sektor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lepšení kvality vnitřního prostředí a zvýšení adaptability budov na změnu klima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gram č. 4 -&gt; Modernizace dopravy (TRANSPORT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76080" indent="-181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projektů podnikatelských subjektů pro pořízení čistých vozidel a vozidel s nulovými emisemi a výstavbu příslušné neveřejné infrastruktur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76080" indent="-181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rogram č. 4B -&gt; Modernizace veřejné dopravy (TRANSGov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76080" indent="-181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rogram je zaměřen na podporu projektů pro veřejné subjekty, podniky s majetkovou účastí státu a veřejných subjektů a veřejné nepodnikatelské subjekty a pro podnikatelské subjekty se závazkem veřejné služby,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pro pořízení čistých vozidel a vozidel s nulovými emisemi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 veřejnou dopravu či pro výstavbu příslušné infrastruktury pro veřejnou dopravu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71480" y="1165320"/>
            <a:ext cx="771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íloví příjemci podpory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eřejné subjekty a subjekty se závazkem poskytování veřejné služb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pis podporované oblasti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ovány jsou projekty čisté mobility prostřednictvím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pořízení čistých silničních nebo drážních vozidel nebo vozidel s nulovými emisemi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s ohledem na budoucí vývoj alternativních technologií a jejich technickou a ekonomickou dostupnost,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výstavby infrastruktury – dobíjecích/plnících stanic pro tato vozidla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a dalších opatření vedoucích ke snížení energetické spotřeby v dopravě, umožňující přechod na bezemisní formu dopravy a opatření bezprostředně spojené se zvýšením energetické účinn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íklady podporovaných opatření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bměna vozového parku ve veřejném sektoru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stavba dobíjecí infrastruktury a plnicích stanic pro alternativní paliv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poručuji průběžně kontrolovat dokument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„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Přehled výzev pro příjem žádostí o podporu z programů Modernizačního fondu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 dispozici zde: </a:t>
            </a: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Dokumenty – SFŽP Č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Nečasová Kateřina, Ing.</cp:lastModifiedBy>
  <cp:lastPrinted>2021-03-30T06:05:26Z</cp:lastPrinted>
  <dcterms:modified xsi:type="dcterms:W3CDTF">2025-09-16T06:51:24Z</dcterms:modified>
  <cp:revision>725</cp:revision>
  <dc:subject/>
  <dc:title>Snímek 1</dc:title>
</cp:coreProperties>
</file>